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385-6763-4E06-8343-5E5A50D8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B40-C701-4AE0-8A10-EE2CBD1E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95B-A794-4F9B-A74E-D5BE7263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830-011D-4F45-9043-4171B599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A4B5-BF3B-4F46-BCE0-48A6D309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2E83-88A9-402F-91B6-D8512FEE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69D5-5A65-4DD8-8F57-109A4488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6D9-4C1A-406B-9E91-17642629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B3A1-10AA-4293-86BE-7AB1EBD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7391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71D5-739F-430E-8CE7-4F3A93C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70F2-9F8B-4B26-BE9E-F310529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507-AC1D-496F-9863-6381C407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61E2-F3D9-4859-8901-AAF4224D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66A4-EDFE-411F-92DE-00F21F6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8E28-0725-4377-BA25-89609BB8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2571-F7FD-44DF-B9B3-E6AA4AED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306A-FD0E-4EF8-8825-8F772F14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A6F-4351-4BA4-9C08-9A0DA51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9A0-DA73-4531-823C-03FCF77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9D7-1717-47DA-A91A-C43E38AC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7391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45E-CB2C-448E-979A-23602FFE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271-E28E-421C-87A6-A15D58A3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6E1-BBD4-49AB-BB2A-7925BB4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E88-3985-43A4-987B-F4ED191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010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6D8-CC92-4A9B-BF73-48EAE07273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15199" t="67152" r="60561" b="16429"/>
          <a:stretch/>
        </p:blipFill>
        <p:spPr>
          <a:xfrm>
            <a:off x="7848720" y="152280"/>
            <a:ext cx="1125360" cy="12193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8160" y="5210280"/>
            <a:ext cx="1485720" cy="164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ADEE-6494-4403-82CE-4A9FEB6F82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83571" t="60561" r="0" b="15199"/>
          <a:stretch/>
        </p:blipFill>
        <p:spPr>
          <a:xfrm>
            <a:off x="7594560" y="3024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15199" t="67133" r="60561" b="16439"/>
          <a:stretch/>
        </p:blipFill>
        <p:spPr>
          <a:xfrm>
            <a:off x="7620120" y="2224080"/>
            <a:ext cx="111276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50743" t="60561" r="32877" b="15199"/>
          <a:stretch/>
        </p:blipFill>
        <p:spPr>
          <a:xfrm>
            <a:off x="7620120" y="5638680"/>
            <a:ext cx="1201680" cy="110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34305" t="60561" r="49267" b="15199"/>
          <a:stretch/>
        </p:blipFill>
        <p:spPr>
          <a:xfrm>
            <a:off x="7620120" y="3352680"/>
            <a:ext cx="1204920" cy="11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17866" t="60561" r="65705" b="15199"/>
          <a:stretch/>
        </p:blipFill>
        <p:spPr>
          <a:xfrm>
            <a:off x="7620120" y="114300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15199" t="1038" r="60561" b="82794"/>
          <a:stretch/>
        </p:blipFill>
        <p:spPr>
          <a:xfrm>
            <a:off x="7620120" y="4452840"/>
            <a:ext cx="1112760" cy="1185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22856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36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600"/>
            </a:br>
            <a:r>
              <a:rPr b="0" lang="uk-UA" sz="3600" spc="-1" strike="noStrike">
                <a:solidFill>
                  <a:srgbClr val="330066"/>
                </a:solidFill>
                <a:latin typeface="Arial"/>
              </a:rPr>
              <a:t>ОРГАНІЗАЦІЯ РОЗПОДІЛЕНИХ ОБЧИСЛЕНЬ</a:t>
            </a:r>
            <a:br>
              <a:rPr sz="3600"/>
            </a:br>
            <a:r>
              <a:rPr b="0" lang="uk-UA" sz="3600" spc="-1" strike="noStrike">
                <a:solidFill>
                  <a:srgbClr val="330066"/>
                </a:solidFill>
                <a:latin typeface="Arial"/>
              </a:rPr>
              <a:t>ЗАСОБАМИ Web-CKM SAGE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рка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5.10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286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иворізький державний педагогічний уні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меріков Сергій Олексій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Рівні паралелізму в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ень комунікаційної бібліоте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ень бібліотек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GE (pyrex, pyth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ень користувача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sage, lpython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84400">
            <a:off x="4190760" y="3276360"/>
            <a:ext cx="457200" cy="1523880"/>
          </a:xfrm>
          <a:prstGeom prst="downArrow">
            <a:avLst>
              <a:gd name="adj1" fmla="val 50000"/>
              <a:gd name="adj2" fmla="val 8852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983600">
            <a:off x="6400440" y="3276360"/>
            <a:ext cx="457200" cy="1523880"/>
          </a:xfrm>
          <a:prstGeom prst="downArrow">
            <a:avLst>
              <a:gd name="adj1" fmla="val 50000"/>
              <a:gd name="adj2" fmla="val 8332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800600"/>
            <a:ext cx="2819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поділені обчис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800600"/>
            <a:ext cx="2819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аралельні обчис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Приклад: паралельне роз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’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язання рівняння Лапла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9000" y="1411200"/>
            <a:ext cx="2149560" cy="874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220968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искретизаці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52680" y="2754360"/>
            <a:ext cx="6037200" cy="82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65040" y="3657600"/>
            <a:ext cx="8413920" cy="809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4572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тераційна процедур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49200" y="5029200"/>
            <a:ext cx="841392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5040" y="0"/>
            <a:ext cx="8412120" cy="549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7360" y="1297080"/>
            <a:ext cx="8369280" cy="373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числювальний експерим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712880"/>
          <a:ext cx="8077320" cy="3560760"/>
        </p:xfrm>
        <a:graphic>
          <a:graphicData uri="http://schemas.openxmlformats.org/drawingml/2006/table">
            <a:tbl>
              <a:tblPr/>
              <a:tblGrid>
                <a:gridCol w="2286000"/>
                <a:gridCol w="2667240"/>
                <a:gridCol w="312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мірність</a:t>
                      </a:r>
                      <a:br>
                        <a:rPr sz="1800"/>
                      </a:b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ідовні</a:t>
                      </a:r>
                      <a:br>
                        <a:rPr sz="1800"/>
                      </a:b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числення,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ельні обчислення</a:t>
                      </a:r>
                      <a:br>
                        <a:rPr sz="1800"/>
                      </a:b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обами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I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х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х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х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х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х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х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х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х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гальна схема роботи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ed 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371600"/>
            <a:ext cx="9144000" cy="5581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66600" y="-96840"/>
            <a:ext cx="9277200" cy="695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8771" r="0" b="15005"/>
          <a:stretch/>
        </p:blipFill>
        <p:spPr>
          <a:xfrm>
            <a:off x="3200400" y="3156120"/>
            <a:ext cx="5937120" cy="3701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0" t="8299" r="0" b="9577"/>
          <a:stretch/>
        </p:blipFill>
        <p:spPr>
          <a:xfrm>
            <a:off x="0" y="0"/>
            <a:ext cx="5937120" cy="399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сновні етапи роботи з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ed SAGE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 (1-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Завантаження серверу DS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d=dsage.start_all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Обчислення за допомогою стандартних функці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res = d('factor(2^325-1)'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31 * 601 * 1801 * 7151 * 8191 * 51879585551 * 145295143558111 * 461367939193695361042959053201412253226033973964404909360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: print "Задачу виконано за", res.cpu_time, "секунд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Задачу виконано за 8.37275099754 секун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сновні етапи роботи з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ed SAGE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числення за допомогою класів, створених користува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class DistributedFunctionTest(DistributedFunc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def __init__(self, dsage, n,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                name='DistributedTestFunction'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DistributedFunction.__init__(self, ds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n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name =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resul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results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jobs = ["print %s"%i for i in range(1,n+1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def process_result(self, 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...       self.result += job.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s=DistributedFunctionTest(d,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s.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['print 1', 'print 2', 'print 3', 'print 4', 'print 5', 'print 6', 'print 7', 'print 8', 'print 9', 'print 10'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ag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: s.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821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ктуальність 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209680"/>
            <a:ext cx="152280" cy="419112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1359720" y="3264480"/>
            <a:ext cx="1852560" cy="381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рганізація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ених обчислень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собами СК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671800">
            <a:off x="1447920" y="2133720"/>
            <a:ext cx="6019560" cy="15228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152240" y="4457520"/>
            <a:ext cx="53352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0066"/>
          </a:solidFill>
          <a:ln w="3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752480"/>
            <a:ext cx="380880" cy="381240"/>
          </a:xfrm>
          <a:prstGeom prst="ellipse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80880" y="2971800"/>
            <a:ext cx="1447920" cy="12952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828440" y="2971440"/>
            <a:ext cx="685800" cy="15238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28800" y="2971440"/>
            <a:ext cx="2286000" cy="121932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29200" y="1523520"/>
            <a:ext cx="198108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934320" y="1523520"/>
            <a:ext cx="182880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933960" y="1523520"/>
            <a:ext cx="609480" cy="129564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981400" y="1714320"/>
            <a:ext cx="1981440" cy="388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радиційна модель організації розподілених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бчис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Обчислювальний експеримент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: DistributedFacto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1444680"/>
            <a:ext cx="7620120" cy="5413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Обчислювальний експеримент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: DistributedPOVRa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06880" y="2408400"/>
            <a:ext cx="5937120" cy="444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35924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Висновк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 Аналіз можливостей різних розподілених систем показує, що вони спрямовані або на розв’язання вузькоспеціалізованих задач, або орієнтовані на програмуючого користувача. Застосування Web-СКМ SAGE та її модуля для розподілених обчислень дозволяє будувати ефективні розподілені системи різного призначення користувачам, дозволяючи їм зосередитись на реалізації обчислювального алгоритму замість деталей реалізації процесу розподілу завда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Виснов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2. Застосування DSAGE дозволяє виконати ефективні обчислення як паралельно (в межах багатопроцесорної системи), так і розподілено. Інтерпретована природа коду SAGE дозволяє в процесі обчислень брати участь серверам, клієнтам та виконавцям, що працюють на різних програмно-апаратних платформах без будь-якої модифікації програмного к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Напрямки подальшої робо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1. Моделювання роботи системи BOINC засобами DS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2. Застосування алгебраїчних методів в криптоаналізі блокових шифр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3. Організація розподілених матричних обчисл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23814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95600" y="552600"/>
            <a:ext cx="5752800" cy="5752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821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ктуальність 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209680"/>
            <a:ext cx="152280" cy="419112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1333440" y="2171160"/>
            <a:ext cx="1676520" cy="403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рганізація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ених обчислень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собам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К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133720"/>
            <a:ext cx="6019560" cy="152280"/>
          </a:xfrm>
          <a:prstGeom prst="rect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52240" y="4457520"/>
            <a:ext cx="53352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0066"/>
          </a:solidFill>
          <a:ln w="3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752480"/>
            <a:ext cx="380880" cy="381240"/>
          </a:xfrm>
          <a:prstGeom prst="ellipse">
            <a:avLst/>
          </a:prstGeom>
          <a:solidFill>
            <a:srgbClr val="33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133720"/>
            <a:ext cx="1447920" cy="12952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828440" y="2133720"/>
            <a:ext cx="685800" cy="13716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828800" y="2133720"/>
            <a:ext cx="2286000" cy="121896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52880" y="2209320"/>
            <a:ext cx="198144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58000" y="2209320"/>
            <a:ext cx="1828800" cy="114300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57640" y="2209320"/>
            <a:ext cx="609480" cy="129564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5981400" y="2171160"/>
            <a:ext cx="1676520" cy="403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330066"/>
              </a:gs>
              <a:gs pos="100000">
                <a:srgbClr val="fefefe"/>
              </a:gs>
            </a:gsLst>
            <a:lin ang="16200000"/>
          </a:gradFill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ові можливості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ля непрограмуючих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истувачів-математ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60561" r="0" b="15199"/>
          <a:stretch/>
        </p:blipFill>
        <p:spPr>
          <a:xfrm>
            <a:off x="1752480" y="5943600"/>
            <a:ext cx="5257800" cy="797040"/>
          </a:xfrm>
          <a:prstGeom prst="rect">
            <a:avLst/>
          </a:prstGeom>
          <a:ln w="38160">
            <a:solidFill>
              <a:srgbClr val="330066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 дослідження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тичний розгляд засобів Web-СКМ SAGE для організації розподілених обчис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б’єктом дослідже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 технологія розподілених обчис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едмет дослідження: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ува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ля реалізації розподілених обчис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330066"/>
                </a:solidFill>
                <a:latin typeface="Arial"/>
              </a:rPr>
              <a:t>Гіпотеза дослідженн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3200400"/>
            <a:ext cx="3200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 Rounded MT Bold"/>
              </a:rPr>
              <a:t>Грід + СК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5053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05720" y="51055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Rounded MT Bold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5715000"/>
            <a:ext cx="4191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автоматизації процесу розрахунку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розподілу завдань та збирання статистик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2895480"/>
            <a:ext cx="1066680" cy="838440"/>
          </a:xfrm>
          <a:prstGeom prst="rect">
            <a:avLst/>
          </a:prstGeom>
          <a:solidFill>
            <a:srgbClr val="6699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2895480"/>
            <a:ext cx="1067040" cy="838440"/>
          </a:xfrm>
          <a:prstGeom prst="rect">
            <a:avLst/>
          </a:prstGeom>
          <a:solidFill>
            <a:srgbClr val="6699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4120" y="3048120"/>
            <a:ext cx="1523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метакомп'ютерні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дослідження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62920" y="3048120"/>
            <a:ext cx="1295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непрограмуючі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0066"/>
                </a:solidFill>
                <a:latin typeface="Arial"/>
              </a:rPr>
              <a:t>математик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0066"/>
              </a:soli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-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системи</a:t>
            </a:r>
            <a:br>
              <a:rPr sz="3900"/>
            </a:b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комп’ютерної математ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безпечують проведення інтерактивних обчислень у середовищ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-брауз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е вимагають встановлення СКМ на клієнтській маши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меншують витрати на адміністру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66"/>
                </a:solidFill>
                <a:latin typeface="Arial"/>
              </a:rPr>
              <a:t>Matlab Web Server, webMathematica, wxMaxim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3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1" dur="3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2" dur="3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SAG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</a:t>
            </a:r>
            <a:r>
              <a:rPr b="1" i="1" lang="en-GB" sz="3500" spc="-1" strike="noStrike">
                <a:solidFill>
                  <a:srgbClr val="330066"/>
                </a:solidFill>
                <a:latin typeface="Arial"/>
              </a:rPr>
              <a:t>Software</a:t>
            </a:r>
            <a:r>
              <a:rPr b="1" i="1" lang="uk-UA" sz="3500" spc="-1" strike="noStrike">
                <a:solidFill>
                  <a:srgbClr val="330066"/>
                </a:solidFill>
                <a:latin typeface="Arial"/>
              </a:rPr>
              <a:t> for Algebra and Geometry Experimentation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158920"/>
            <a:ext cx="9067680" cy="2933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47920" y="51814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Замість того, щоб кожен раз винаходити нове колесо, чи не краще врешті-решт зібрати автомобіль?” (Вільям Штейн, 2006 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Домашня сторінка користувач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480" y="1676520"/>
            <a:ext cx="8915400" cy="50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сновні характеристики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безкоштовність та відкритість систе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невимогливість до апаратної складової обчислювальної систе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ндиферентність до використовуваного браузе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ідтримка інтерфейсів до комерційних систем комп’ютерної математики, таких як – Maple, Magma, Mathematica і Matl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одання математичних виразів природною мовою не вимагає встановлення спеціального програмного забезпечення – достатньо дозавантажити математичні шриф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наявність потужного інструментарію для побудови статичних та динамічних графічних зображень 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(на площині та у просторі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можливість публікації робочих листів (worksheets) записника (notebook) у мережі Inter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ідтримка технології Wi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</cp:lastModifiedBy>
  <dcterms:modified xsi:type="dcterms:W3CDTF">2009-10-14T19:16:02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